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C42-D5CB-47AA-8307-76F45DAD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AF5-5AFC-4A3D-9383-480C6BB0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13F-4275-410F-9E59-7CDD82B4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BA6-13CD-4D75-9DDA-15311D7B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85C-1C8F-4881-84C7-DC6901F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BDC-2671-40F3-92A1-851A246C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895-348C-4CA4-AFD9-B0AD805D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DE6-2043-4246-BA22-31C59849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1D7A-173B-4F51-9F6E-110BFDA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1BF-A3DC-4B48-8427-99BF96E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148-AC91-45FF-9415-AE89A59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969-C8C7-4607-BE9A-69A50DFB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BCD9-D8CB-4833-B404-ECABA9E40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23377" r="76500" b="51139"/>
          <a:stretch/>
        </p:blipFill>
        <p:spPr>
          <a:xfrm>
            <a:off x="0" y="0"/>
            <a:ext cx="84312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82560" y="0"/>
            <a:ext cx="756144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4006" t="0" r="0" b="50009"/>
          <a:stretch/>
        </p:blipFill>
        <p:spPr>
          <a:xfrm>
            <a:off x="0" y="0"/>
            <a:ext cx="77148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1000" y="0"/>
            <a:ext cx="7623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0120" y="546120"/>
            <a:ext cx="79437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3:48:20Z</dcterms:created>
  <dc:creator>lucy/laffitte</dc:creator>
  <dc:description/>
  <dc:language>en-US</dc:language>
  <cp:lastModifiedBy>lucy/laffitte</cp:lastModifiedBy>
  <dcterms:modified xsi:type="dcterms:W3CDTF">2011-07-16T03:52:05Z</dcterms:modified>
  <cp:revision>4</cp:revision>
  <dc:subject/>
  <dc:title>PowerPoint Presentation</dc:title>
</cp:coreProperties>
</file>